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160" bIns="47160" anchor="ctr">
            <a:noAutofit/>
          </a:bodyPr>
          <a:p>
            <a:pPr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93240" y="768240"/>
            <a:ext cx="5115240" cy="383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  <a:tab algn="l" pos="9767880"/>
                <a:tab algn="l" pos="10233000"/>
                <a:tab algn="l" pos="106981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  <a:tab algn="l" pos="9767880"/>
                <a:tab algn="l" pos="10233000"/>
                <a:tab algn="l" pos="10698120"/>
              </a:tabLst>
            </a:pPr>
            <a:fld id="{4FA5187E-C44C-47BC-9CD5-3DBDE29F05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402120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  <a:tab algn="l" pos="9767880"/>
                <a:tab algn="l" pos="10233000"/>
                <a:tab algn="l" pos="10698120"/>
              </a:tabLst>
            </a:pPr>
            <a:fld id="{F82F3E15-7436-428A-9A41-1D9D691638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"/>
          <p:cNvSpPr/>
          <p:nvPr/>
        </p:nvSpPr>
        <p:spPr>
          <a:xfrm>
            <a:off x="960480" y="768240"/>
            <a:ext cx="51832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160" bIns="47160" anchor="ctr">
            <a:noAutofit/>
          </a:bodyPr>
          <a:p>
            <a:pPr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82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1988640"/>
            <a:ext cx="76298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6920" y="1988640"/>
            <a:ext cx="76298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920" y="1988640"/>
            <a:ext cx="76298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6920" y="1988640"/>
            <a:ext cx="76298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6920" y="1988640"/>
            <a:ext cx="76298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1988640"/>
            <a:ext cx="76298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6920" y="1988640"/>
            <a:ext cx="76298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6920" y="1988640"/>
            <a:ext cx="762984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6920" y="1988640"/>
            <a:ext cx="76298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1988640"/>
            <a:ext cx="76298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1988640"/>
            <a:ext cx="76298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6920" y="1988640"/>
            <a:ext cx="76298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4284720" y="6381720"/>
            <a:ext cx="468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8 EGEM i-te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2556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FD79F167-F6FD-4E6B-ADD4-D0C5E525C5E6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0947"/>
          <p:cNvPicPr/>
          <p:nvPr/>
        </p:nvPicPr>
        <p:blipFill>
          <a:blip r:embed="rId3"/>
          <a:srcRect l="0" t="16972" r="0" b="0"/>
          <a:stretch/>
        </p:blipFill>
        <p:spPr>
          <a:xfrm>
            <a:off x="0" y="0"/>
            <a:ext cx="2340000" cy="127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280" y="1557360"/>
            <a:ext cx="7630920" cy="20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800"/>
            </a:b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StUF, RSGB en RGBZ</a:t>
            </a:r>
            <a:br>
              <a:rPr sz="4800"/>
            </a:b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van EGEM i-teams </a:t>
            </a:r>
            <a:br>
              <a:rPr sz="4800"/>
            </a:b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naar KING</a:t>
            </a:r>
            <a:br>
              <a:rPr sz="54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26560" y="4495320"/>
            <a:ext cx="694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ter Kla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trecht, 25 novem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UF Regiegro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1988640"/>
            <a:ext cx="76298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UniversBlack"/>
              </a:rPr>
              <a:t>Pijl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27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UniversLight"/>
              </a:rPr>
              <a:t>-</a:t>
            </a:r>
            <a:r>
              <a:rPr b="0" lang="nl-NL" sz="2400" spc="-1" strike="noStrike">
                <a:solidFill>
                  <a:srgbClr val="000000"/>
                </a:solidFill>
                <a:latin typeface="UniversLight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UniversLight"/>
              </a:rPr>
              <a:t>Benchma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UniversLight"/>
              </a:rPr>
              <a:t>-</a:t>
            </a:r>
            <a:r>
              <a:rPr b="0" lang="nl-NL" sz="2400" spc="-1" strike="noStrike">
                <a:solidFill>
                  <a:srgbClr val="000000"/>
                </a:solidFill>
                <a:latin typeface="UniversLight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UniversLight"/>
              </a:rPr>
              <a:t>Bestuurskr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UniversLight"/>
              </a:rPr>
              <a:t>-</a:t>
            </a:r>
            <a:r>
              <a:rPr b="0" lang="nl-NL" sz="2400" spc="-1" strike="noStrike">
                <a:solidFill>
                  <a:srgbClr val="000000"/>
                </a:solidFill>
                <a:latin typeface="UniversLight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UniversLight"/>
              </a:rPr>
              <a:t>Informatietechn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"/>
          <p:cNvSpPr/>
          <p:nvPr/>
        </p:nvSpPr>
        <p:spPr>
          <a:xfrm rot="2700000">
            <a:off x="4096080" y="2706120"/>
            <a:ext cx="1247760" cy="1249560"/>
          </a:xfrm>
          <a:prstGeom prst="rtTriangle">
            <a:avLst/>
          </a:prstGeom>
          <a:solidFill>
            <a:srgbClr val="d3eb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"/>
          <p:cNvSpPr/>
          <p:nvPr/>
        </p:nvSpPr>
        <p:spPr>
          <a:xfrm rot="18900000">
            <a:off x="5083200" y="3693600"/>
            <a:ext cx="1249200" cy="1247760"/>
          </a:xfrm>
          <a:prstGeom prst="rtTriangle">
            <a:avLst/>
          </a:prstGeom>
          <a:solidFill>
            <a:srgbClr val="d3eb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 flipH="1" rot="18900000">
            <a:off x="6072120" y="2706480"/>
            <a:ext cx="1247760" cy="1247760"/>
          </a:xfrm>
          <a:prstGeom prst="rtTriangle">
            <a:avLst/>
          </a:prstGeom>
          <a:solidFill>
            <a:srgbClr val="d3eb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 rot="16200000">
            <a:off x="3924000" y="3203280"/>
            <a:ext cx="11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UniversLight"/>
              </a:rPr>
              <a:t>Benchm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5142960" y="4343400"/>
            <a:ext cx="116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UniversLight"/>
              </a:rPr>
              <a:t>Informatie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UniversLight"/>
              </a:rPr>
              <a:t>techn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 rot="5400000">
            <a:off x="6170400" y="321264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UniversLight"/>
              </a:rPr>
              <a:t>Bestuurskrac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>
            <a:off x="4979880" y="3538440"/>
            <a:ext cx="1508400" cy="57168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UniversLight"/>
              </a:rPr>
              <a:t>Kwaliteit v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UniversLight"/>
              </a:rPr>
              <a:t>bedrijfsvo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1"/>
          <p:cNvSpPr/>
          <p:nvPr/>
        </p:nvSpPr>
        <p:spPr>
          <a:xfrm>
            <a:off x="4979880" y="2759040"/>
            <a:ext cx="1508400" cy="57168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UniversLight"/>
              </a:rPr>
              <a:t>Kwaliteit v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UniversLight"/>
              </a:rPr>
              <a:t>dienstverl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/>
          <p:cNvSpPr/>
          <p:nvPr/>
        </p:nvSpPr>
        <p:spPr>
          <a:xfrm>
            <a:off x="5083200" y="2030400"/>
            <a:ext cx="415800" cy="573120"/>
          </a:xfrm>
          <a:prstGeom prst="upArrow">
            <a:avLst>
              <a:gd name="adj1" fmla="val 50000"/>
              <a:gd name="adj2" fmla="val 34459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3"/>
          <p:cNvSpPr/>
          <p:nvPr/>
        </p:nvSpPr>
        <p:spPr>
          <a:xfrm>
            <a:off x="6019920" y="2030400"/>
            <a:ext cx="415800" cy="573120"/>
          </a:xfrm>
          <a:prstGeom prst="upArrow">
            <a:avLst>
              <a:gd name="adj1" fmla="val 50000"/>
              <a:gd name="adj2" fmla="val 34459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4876200" y="1565280"/>
            <a:ext cx="159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3300"/>
                </a:solidFill>
                <a:latin typeface="UniversLight"/>
              </a:rPr>
              <a:t>1 + 1 + 1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5"/>
          <p:cNvSpPr/>
          <p:nvPr/>
        </p:nvSpPr>
        <p:spPr>
          <a:xfrm>
            <a:off x="6858000" y="4343400"/>
            <a:ext cx="1782720" cy="312840"/>
          </a:xfrm>
          <a:prstGeom prst="wedgeEllipseCallout">
            <a:avLst>
              <a:gd name="adj1" fmla="val -32546"/>
              <a:gd name="adj2" fmla="val -299240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UniversLight"/>
              </a:rPr>
              <a:t>verantwoo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6"/>
          <p:cNvSpPr/>
          <p:nvPr/>
        </p:nvSpPr>
        <p:spPr>
          <a:xfrm>
            <a:off x="6019920" y="5105520"/>
            <a:ext cx="1352520" cy="311040"/>
          </a:xfrm>
          <a:prstGeom prst="wedgeEllipseCallout">
            <a:avLst>
              <a:gd name="adj1" fmla="val -45773"/>
              <a:gd name="adj2" fmla="val -163263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UniversLight"/>
              </a:rPr>
              <a:t>verster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7"/>
          <p:cNvSpPr/>
          <p:nvPr/>
        </p:nvSpPr>
        <p:spPr>
          <a:xfrm>
            <a:off x="3211560" y="2133720"/>
            <a:ext cx="1351080" cy="312480"/>
          </a:xfrm>
          <a:prstGeom prst="wedgeEllipseCallout">
            <a:avLst>
              <a:gd name="adj1" fmla="val 33666"/>
              <a:gd name="adj2" fmla="val 306347"/>
            </a:avLst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UniversLight"/>
              </a:rPr>
              <a:t>vergelij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8"/>
          <p:cNvSpPr/>
          <p:nvPr/>
        </p:nvSpPr>
        <p:spPr>
          <a:xfrm>
            <a:off x="4140360" y="3933720"/>
            <a:ext cx="3384360" cy="165600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1545480" y="5686560"/>
            <a:ext cx="577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3300"/>
                </a:solidFill>
                <a:latin typeface="Arial"/>
              </a:rPr>
              <a:t>Ingrid Hoogstrate (afdelingshoofd I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072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tUF, RSGB, RGBZ vanaf 1 januari 2010</a:t>
            </a: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onder verantwoordelijkheid van KI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3068280"/>
            <a:ext cx="8227800" cy="32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Beheer en doorontwikkeling van de standaarden wordt door KING gecontinueerd volgens beheer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gevensstandaarden RSGB, RGB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UF, StUF protocolbindingen, StUF BG, StUF ZKN en (StUF E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e- en Expertgroep, community en overlegstuc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cumentatie, communicatie, bestekteksten, website, e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regelen uitbesteding StUF Opleiding bij 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072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2010 – verdere versterk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351640" cy="39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sterking: besluitvorming begin 20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olgens een op te stellen werk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imuleren/sturen op implementatie StUF 3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35892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UF Compliancy vervol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35892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orvoeren “Harmonisatie StUF / NEN3610” in standaa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35892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wikkeling/beheer van binnengemeentelijke standaarden rond BA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2498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cl BAG-GBA koppelv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35892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uwe sectormodellen bijv mGBA, Justitie, Afval, Suwi,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35892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amenwerking O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35892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amenwerking Geonov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35892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62984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ragen?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vraag"/>
          <p:cNvPicPr/>
          <p:nvPr/>
        </p:nvPicPr>
        <p:blipFill>
          <a:blip r:embed="rId1"/>
          <a:stretch/>
        </p:blipFill>
        <p:spPr>
          <a:xfrm>
            <a:off x="2700360" y="2249640"/>
            <a:ext cx="381636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ter Klaver , </dc:creator>
  <dc:description/>
  <dc:language>en-US</dc:language>
  <cp:lastModifiedBy>Peter</cp:lastModifiedBy>
  <dcterms:modified xsi:type="dcterms:W3CDTF">2009-11-25T07:43:24Z</dcterms:modified>
  <cp:revision>73</cp:revision>
  <dc:subject/>
  <dc:title>StUF presentatie</dc:title>
</cp:coreProperties>
</file>